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11.png" ContentType="image/png"/>
  <Override PartName="/ppt/media/image31.wmf" ContentType="image/x-wmf"/>
  <Override PartName="/ppt/media/image29.wmf" ContentType="image/x-wmf"/>
  <Override PartName="/ppt/media/image4.jpeg" ContentType="image/jpeg"/>
  <Override PartName="/ppt/media/image8.wmf" ContentType="image/x-wmf"/>
  <Override PartName="/ppt/media/image7.wmf" ContentType="image/x-wmf"/>
  <Override PartName="/ppt/media/image23.gif" ContentType="image/gif"/>
  <Override PartName="/ppt/media/image3.png" ContentType="image/png"/>
  <Override PartName="/ppt/media/image9.wmf" ContentType="image/x-wmf"/>
  <Override PartName="/ppt/media/image12.gif" ContentType="image/gif"/>
  <Override PartName="/ppt/media/image18.gif" ContentType="image/gif"/>
  <Override PartName="/ppt/media/image13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2.gif" ContentType="image/gif"/>
  <Override PartName="/ppt/media/image14.gif" ContentType="image/gif"/>
  <Override PartName="/ppt/media/image15.gif" ContentType="image/gif"/>
  <Override PartName="/ppt/media/image16.wmf" ContentType="image/x-wmf"/>
  <Override PartName="/ppt/media/image17.wmf" ContentType="image/x-wmf"/>
  <Override PartName="/ppt/media/image19.wmf" ContentType="image/x-wmf"/>
  <Override PartName="/ppt/media/image21.jpeg" ContentType="image/jpeg"/>
  <Override PartName="/ppt/media/image22.png" ContentType="image/png"/>
  <Override PartName="/ppt/media/image20.wmf" ContentType="image/x-wmf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2EF-A6E7-4475-9E83-C16BE474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6E0-8CA7-40C4-87C1-1EFA8F6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6B3-57D4-4A16-8EF3-D7AB4CF3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B6F-9A29-46E4-A397-2BA94CC6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FEA-78BF-4345-BD18-15C8999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30D-4825-43D7-A644-85873F8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56C-9587-4B6E-9307-4B8B65FC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81C-03DA-4487-BC16-16CEE2A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7D4-B3DA-49A9-B8E4-4BFDC74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0D4-6817-4BBD-B2F9-DBFCBF73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136-416B-4C55-AB1C-C212376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961-690B-46E3-8444-77580BC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3B9-5A9E-4592-928B-65370D5B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rch.live.com/images/results.aspx?q=snow%20%7C%20id:E2684B598F441C2ED8DFBC435E1026DEDC78D615&amp;form=IGRE2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.gi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4171680" cy="374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487692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ckham Script Pro Semibold"/>
              </a:rPr>
              <a:t>Merry Christma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915400" y="65530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rdan La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856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1828800" cy="372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6509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3435480"/>
            <a:ext cx="2394000" cy="34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546440" y="1752480"/>
            <a:ext cx="4597560" cy="307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541760" y="4657680"/>
            <a:ext cx="4602240" cy="220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9880" y="0"/>
            <a:ext cx="579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no Pro Smbd Display"/>
              </a:rPr>
              <a:t>Santa's elv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43828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760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8148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3772080" cy="20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97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holly marie art and desig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553080" y="4419720"/>
            <a:ext cx="90828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5124600"/>
            <a:ext cx="3352680" cy="17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828800" y="5124600"/>
            <a:ext cx="3352680" cy="173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988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296280" cy="693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417840"/>
            <a:ext cx="3695760" cy="344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943600" y="320040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029200" y="182880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114800" y="3733920"/>
            <a:ext cx="1819440" cy="428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791320" y="3809880"/>
            <a:ext cx="2133360" cy="3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114800" y="426708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791320" y="4343400"/>
            <a:ext cx="2133360" cy="32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3962520" y="3429000"/>
            <a:ext cx="1458720" cy="179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572000" y="3537000"/>
            <a:ext cx="3502080" cy="332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205fb"/>
                </a:solidFill>
                <a:latin typeface="Goudy Stout"/>
              </a:rPr>
              <a:t>Its freezing out</a:t>
            </a:r>
            <a:r>
              <a:rPr b="0" lang="en-US" sz="8800" spc="-1" strike="noStrike">
                <a:solidFill>
                  <a:srgbClr val="2205fb"/>
                </a:solidFill>
                <a:latin typeface="Goudy Stou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62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0440" cy="965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4956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781680" y="609480"/>
            <a:ext cx="186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O HO H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5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666880" y="251460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1422360" cy="191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13400" y="727200"/>
            <a:ext cx="1467000" cy="1868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560" y="4105440"/>
            <a:ext cx="1725480" cy="1895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505320" y="457200"/>
            <a:ext cx="2203200" cy="2093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162920" y="5003640"/>
            <a:ext cx="1627200" cy="185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6858000" y="2895480"/>
            <a:ext cx="1878120" cy="1743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3505320" y="5816520"/>
            <a:ext cx="1930320" cy="104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ve a great 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70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36:25Z</dcterms:created>
  <dc:creator>766935</dc:creator>
  <dc:description/>
  <dc:language>en-US</dc:language>
  <cp:lastModifiedBy>766935</cp:lastModifiedBy>
  <dcterms:modified xsi:type="dcterms:W3CDTF">2008-12-17T16:35:13Z</dcterms:modified>
  <cp:revision>7</cp:revision>
  <dc:subject/>
  <dc:title>Slide 1</dc:title>
</cp:coreProperties>
</file>